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CA0-D457-4D16-87D3-1C0B3C9C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922-9B8E-431F-8FDD-AD5DF249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31/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ME 6405: Introduction to Mechatronics</a:t>
            </a:r>
            <a:fld id="{09A3BF03-FE73-4DC9-86FA-F96B9244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719-B6B3-4F4D-B149-168D8953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333-9444-4491-8CAB-3433A1E6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0E0-57A9-4988-83AD-D074FE8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B46-A9AD-4F92-BA64-C5AFDD27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834-52BC-4518-AAE6-0A6F69F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ECE-5A24-4D65-B4A2-CA202AD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0BA-EF1F-47EF-886D-93737F2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326-793C-459C-8E1C-72DABFB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38A-8422-40BF-9484-501F70F2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AEA-5029-4EBA-B0B8-703B0192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3DE-7B8D-44E7-A269-828F996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504-FDCE-441F-8DD4-E293334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0C2F-4EC8-41FA-AE84-0096F09D6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tr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000" y="838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iew of Semi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8920" y="1219320"/>
            <a:ext cx="840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miconductors of greatest importance are Silicon (S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rmanium (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lements have four valence electr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lowest unfilled energy 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ectron Energy Illustration"/>
          <p:cNvPicPr/>
          <p:nvPr/>
        </p:nvPicPr>
        <p:blipFill>
          <a:blip r:embed="rId1"/>
          <a:stretch/>
        </p:blipFill>
        <p:spPr>
          <a:xfrm>
            <a:off x="6248520" y="3429000"/>
            <a:ext cx="2719440" cy="2651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51080" y="3581280"/>
            <a:ext cx="58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ergy region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s are filled or partially fill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valence band can be m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du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with the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nergy, usually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2920" y="685800"/>
            <a:ext cx="855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can be classified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sulator – has valence and conduction bands w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emiconductor – has valence band close to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the energy gap is about 1eV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onductor – has the conduction and valence b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emiconductors (Si, Ge) are poor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 are valuable for two unusu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nductivity increases exponentially with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: Therm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nductivity can be increased and precisely controll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small impurities in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p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6800" y="380880"/>
            <a:ext cx="89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doping – adds impurities from column V of the periodic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Negative free charge carriers (electr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doping – adds impurities from column III of the periodic t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Positive free charge carriers (ho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created when a p-type semiconductor is joined with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ype semiconductor by the addition of thermal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oth materials are joined, the thermal energy causes posi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reg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the depletion region within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438280" y="1981080"/>
            <a:ext cx="4216320" cy="2882880"/>
            <a:chOff x="2438280" y="1981080"/>
            <a:chExt cx="4216320" cy="2882880"/>
          </a:xfrm>
        </p:grpSpPr>
        <p:sp>
          <p:nvSpPr>
            <p:cNvPr id="87" name="Rectangle 3"/>
            <p:cNvSpPr/>
            <p:nvPr/>
          </p:nvSpPr>
          <p:spPr>
            <a:xfrm>
              <a:off x="3124080" y="2514600"/>
              <a:ext cx="2819160" cy="145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51814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350496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3430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8002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45716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4381200" y="2832120"/>
              <a:ext cx="152640" cy="152280"/>
              <a:chOff x="4381200" y="2832120"/>
              <a:chExt cx="152640" cy="15228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4381200" y="2832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381200" y="2908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4609800" y="2603520"/>
              <a:ext cx="152280" cy="152280"/>
              <a:chOff x="4609800" y="2603520"/>
              <a:chExt cx="152280" cy="1522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4609800" y="260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4609800" y="2679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4686120" y="26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4381200" y="3060720"/>
              <a:ext cx="152640" cy="152280"/>
              <a:chOff x="4381200" y="3060720"/>
              <a:chExt cx="152640" cy="152280"/>
            </a:xfrm>
          </p:grpSpPr>
          <p:sp>
            <p:nvSpPr>
              <p:cNvPr id="101" name="Oval 17"/>
              <p:cNvSpPr/>
              <p:nvPr/>
            </p:nvSpPr>
            <p:spPr>
              <a:xfrm>
                <a:off x="4381200" y="306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4381200" y="3136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9"/>
            <p:cNvGrpSpPr/>
            <p:nvPr/>
          </p:nvGrpSpPr>
          <p:grpSpPr>
            <a:xfrm>
              <a:off x="4381200" y="3289320"/>
              <a:ext cx="152640" cy="152280"/>
              <a:chOff x="4381200" y="3289320"/>
              <a:chExt cx="152640" cy="152280"/>
            </a:xfrm>
          </p:grpSpPr>
          <p:sp>
            <p:nvSpPr>
              <p:cNvPr id="104" name="Oval 20"/>
              <p:cNvSpPr/>
              <p:nvPr/>
            </p:nvSpPr>
            <p:spPr>
              <a:xfrm>
                <a:off x="4381200" y="3289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4381200" y="336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2"/>
            <p:cNvGrpSpPr/>
            <p:nvPr/>
          </p:nvGrpSpPr>
          <p:grpSpPr>
            <a:xfrm>
              <a:off x="4381200" y="3517920"/>
              <a:ext cx="152640" cy="152280"/>
              <a:chOff x="4381200" y="3517920"/>
              <a:chExt cx="152640" cy="152280"/>
            </a:xfrm>
          </p:grpSpPr>
          <p:sp>
            <p:nvSpPr>
              <p:cNvPr id="107" name="Oval 23"/>
              <p:cNvSpPr/>
              <p:nvPr/>
            </p:nvSpPr>
            <p:spPr>
              <a:xfrm>
                <a:off x="4381200" y="351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4381200" y="3593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5"/>
            <p:cNvGrpSpPr/>
            <p:nvPr/>
          </p:nvGrpSpPr>
          <p:grpSpPr>
            <a:xfrm>
              <a:off x="4381200" y="3746520"/>
              <a:ext cx="152640" cy="152280"/>
              <a:chOff x="4381200" y="3746520"/>
              <a:chExt cx="152640" cy="152280"/>
            </a:xfrm>
          </p:grpSpPr>
          <p:sp>
            <p:nvSpPr>
              <p:cNvPr id="110" name="Oval 26"/>
              <p:cNvSpPr/>
              <p:nvPr/>
            </p:nvSpPr>
            <p:spPr>
              <a:xfrm>
                <a:off x="4381200" y="3746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381200" y="382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8"/>
            <p:cNvGrpSpPr/>
            <p:nvPr/>
          </p:nvGrpSpPr>
          <p:grpSpPr>
            <a:xfrm>
              <a:off x="4381200" y="2603520"/>
              <a:ext cx="152640" cy="152280"/>
              <a:chOff x="4381200" y="2603520"/>
              <a:chExt cx="152640" cy="152280"/>
            </a:xfrm>
          </p:grpSpPr>
          <p:sp>
            <p:nvSpPr>
              <p:cNvPr id="113" name="Oval 29"/>
              <p:cNvSpPr/>
              <p:nvPr/>
            </p:nvSpPr>
            <p:spPr>
              <a:xfrm>
                <a:off x="4381200" y="2603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4381200" y="267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4609800" y="2832120"/>
              <a:ext cx="152280" cy="152280"/>
              <a:chOff x="4609800" y="2832120"/>
              <a:chExt cx="152280" cy="152280"/>
            </a:xfrm>
          </p:grpSpPr>
          <p:sp>
            <p:nvSpPr>
              <p:cNvPr id="116" name="Oval 32"/>
              <p:cNvSpPr/>
              <p:nvPr/>
            </p:nvSpPr>
            <p:spPr>
              <a:xfrm>
                <a:off x="4609800" y="283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4609800" y="29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4686120" y="283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35"/>
            <p:cNvGrpSpPr/>
            <p:nvPr/>
          </p:nvGrpSpPr>
          <p:grpSpPr>
            <a:xfrm>
              <a:off x="4609800" y="3060720"/>
              <a:ext cx="152280" cy="152280"/>
              <a:chOff x="4609800" y="3060720"/>
              <a:chExt cx="152280" cy="15228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4609800" y="3060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7"/>
              <p:cNvSpPr/>
              <p:nvPr/>
            </p:nvSpPr>
            <p:spPr>
              <a:xfrm>
                <a:off x="4609800" y="313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6120" y="3060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39"/>
            <p:cNvGrpSpPr/>
            <p:nvPr/>
          </p:nvGrpSpPr>
          <p:grpSpPr>
            <a:xfrm>
              <a:off x="4609800" y="3289320"/>
              <a:ext cx="152280" cy="152280"/>
              <a:chOff x="4609800" y="3289320"/>
              <a:chExt cx="152280" cy="1522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4609800" y="328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1"/>
              <p:cNvSpPr/>
              <p:nvPr/>
            </p:nvSpPr>
            <p:spPr>
              <a:xfrm>
                <a:off x="4609800" y="336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2"/>
              <p:cNvSpPr/>
              <p:nvPr/>
            </p:nvSpPr>
            <p:spPr>
              <a:xfrm>
                <a:off x="4686120" y="3289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43"/>
            <p:cNvGrpSpPr/>
            <p:nvPr/>
          </p:nvGrpSpPr>
          <p:grpSpPr>
            <a:xfrm>
              <a:off x="4609800" y="3517920"/>
              <a:ext cx="152280" cy="152280"/>
              <a:chOff x="4609800" y="3517920"/>
              <a:chExt cx="152280" cy="152280"/>
            </a:xfrm>
          </p:grpSpPr>
          <p:sp>
            <p:nvSpPr>
              <p:cNvPr id="128" name="Oval 44"/>
              <p:cNvSpPr/>
              <p:nvPr/>
            </p:nvSpPr>
            <p:spPr>
              <a:xfrm>
                <a:off x="4609800" y="3517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5"/>
              <p:cNvSpPr/>
              <p:nvPr/>
            </p:nvSpPr>
            <p:spPr>
              <a:xfrm>
                <a:off x="4609800" y="359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6"/>
              <p:cNvSpPr/>
              <p:nvPr/>
            </p:nvSpPr>
            <p:spPr>
              <a:xfrm>
                <a:off x="4686120" y="351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7"/>
            <p:cNvGrpSpPr/>
            <p:nvPr/>
          </p:nvGrpSpPr>
          <p:grpSpPr>
            <a:xfrm>
              <a:off x="4609800" y="3746520"/>
              <a:ext cx="152280" cy="152280"/>
              <a:chOff x="4609800" y="3746520"/>
              <a:chExt cx="152280" cy="152280"/>
            </a:xfrm>
          </p:grpSpPr>
          <p:sp>
            <p:nvSpPr>
              <p:cNvPr id="132" name="Oval 48"/>
              <p:cNvSpPr/>
              <p:nvPr/>
            </p:nvSpPr>
            <p:spPr>
              <a:xfrm>
                <a:off x="4609800" y="3746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9"/>
              <p:cNvSpPr/>
              <p:nvPr/>
            </p:nvSpPr>
            <p:spPr>
              <a:xfrm>
                <a:off x="4609800" y="382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0"/>
              <p:cNvSpPr/>
              <p:nvPr/>
            </p:nvSpPr>
            <p:spPr>
              <a:xfrm>
                <a:off x="4686120" y="374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29714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432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>
              <a:off x="419076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>
              <a:off x="43430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5"/>
            <p:cNvSpPr/>
            <p:nvPr/>
          </p:nvSpPr>
          <p:spPr>
            <a:xfrm>
              <a:off x="48002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 flipV="1">
              <a:off x="42670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 flipV="1">
              <a:off x="47242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8"/>
            <p:cNvSpPr/>
            <p:nvPr/>
          </p:nvSpPr>
          <p:spPr>
            <a:xfrm>
              <a:off x="3733200" y="4495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Depletion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59"/>
            <p:cNvGrpSpPr/>
            <p:nvPr/>
          </p:nvGrpSpPr>
          <p:grpSpPr>
            <a:xfrm>
              <a:off x="3200040" y="2666880"/>
              <a:ext cx="152640" cy="152640"/>
              <a:chOff x="3200040" y="2666880"/>
              <a:chExt cx="152640" cy="152640"/>
            </a:xfrm>
          </p:grpSpPr>
          <p:sp>
            <p:nvSpPr>
              <p:cNvPr id="144" name="Line 60"/>
              <p:cNvSpPr/>
              <p:nvPr/>
            </p:nvSpPr>
            <p:spPr>
              <a:xfrm>
                <a:off x="3200040" y="2743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1"/>
              <p:cNvSpPr/>
              <p:nvPr/>
            </p:nvSpPr>
            <p:spPr>
              <a:xfrm>
                <a:off x="3276360" y="2666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62"/>
            <p:cNvSpPr/>
            <p:nvPr/>
          </p:nvSpPr>
          <p:spPr>
            <a:xfrm>
              <a:off x="571464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3"/>
            <p:cNvSpPr/>
            <p:nvPr/>
          </p:nvSpPr>
          <p:spPr>
            <a:xfrm>
              <a:off x="32763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4"/>
            <p:cNvSpPr/>
            <p:nvPr/>
          </p:nvSpPr>
          <p:spPr>
            <a:xfrm>
              <a:off x="57909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5"/>
            <p:cNvSpPr/>
            <p:nvPr/>
          </p:nvSpPr>
          <p:spPr>
            <a:xfrm>
              <a:off x="243828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6"/>
            <p:cNvSpPr/>
            <p:nvPr/>
          </p:nvSpPr>
          <p:spPr>
            <a:xfrm>
              <a:off x="487656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137880" y="457200"/>
            <a:ext cx="88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letion region contains an internal electric field caused b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charge.  This is called the potential barrier and it act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 the diffusion of majority carriers across the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-7920" y="548640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 circuit conditions no current flows through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46760" y="990720"/>
            <a:ext cx="83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 of a diode depends on the the polarity of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2080" y="1371600"/>
            <a:ext cx="851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the junction and the depletion reg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oltage is high enough the depletion region can be entir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sustained by the majority c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267080" y="3733920"/>
            <a:ext cx="3797640" cy="2733480"/>
            <a:chOff x="4267080" y="3733920"/>
            <a:chExt cx="3797640" cy="2733480"/>
          </a:xfrm>
        </p:grpSpPr>
        <p:sp>
          <p:nvSpPr>
            <p:cNvPr id="159" name="Rectangle 7"/>
            <p:cNvSpPr/>
            <p:nvPr/>
          </p:nvSpPr>
          <p:spPr>
            <a:xfrm>
              <a:off x="5112720" y="60991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Forward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8"/>
            <p:cNvGrpSpPr/>
            <p:nvPr/>
          </p:nvGrpSpPr>
          <p:grpSpPr>
            <a:xfrm>
              <a:off x="4267080" y="3733920"/>
              <a:ext cx="3797640" cy="2298600"/>
              <a:chOff x="4267080" y="3733920"/>
              <a:chExt cx="3797640" cy="2298600"/>
            </a:xfrm>
          </p:grpSpPr>
          <p:grpSp>
            <p:nvGrpSpPr>
              <p:cNvPr id="161" name="Group 9"/>
              <p:cNvGrpSpPr/>
              <p:nvPr/>
            </p:nvGrpSpPr>
            <p:grpSpPr>
              <a:xfrm>
                <a:off x="4976640" y="4275000"/>
                <a:ext cx="1825920" cy="849600"/>
                <a:chOff x="4976640" y="4275000"/>
                <a:chExt cx="1825920" cy="849600"/>
              </a:xfrm>
            </p:grpSpPr>
            <p:sp>
              <p:nvSpPr>
                <p:cNvPr id="162" name="Rectangle 10"/>
                <p:cNvSpPr/>
                <p:nvPr/>
              </p:nvSpPr>
              <p:spPr>
                <a:xfrm>
                  <a:off x="5065560" y="4275000"/>
                  <a:ext cx="164772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6267240" y="4541760"/>
                  <a:ext cx="266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Text Box 12"/>
                <p:cNvSpPr/>
                <p:nvPr/>
              </p:nvSpPr>
              <p:spPr>
                <a:xfrm>
                  <a:off x="5288040" y="4541760"/>
                  <a:ext cx="22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4976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14"/>
                <p:cNvSpPr/>
                <p:nvPr/>
              </p:nvSpPr>
              <p:spPr>
                <a:xfrm>
                  <a:off x="6713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5"/>
                <p:cNvSpPr/>
                <p:nvPr/>
              </p:nvSpPr>
              <p:spPr>
                <a:xfrm>
                  <a:off x="5911920" y="4275000"/>
                  <a:ext cx="0" cy="84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Line 16"/>
              <p:cNvSpPr/>
              <p:nvPr/>
            </p:nvSpPr>
            <p:spPr>
              <a:xfrm flipH="1">
                <a:off x="4368960" y="468000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H="1">
                <a:off x="6802200" y="4680000"/>
                <a:ext cx="6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8"/>
              <p:cNvSpPr/>
              <p:nvPr/>
            </p:nvSpPr>
            <p:spPr>
              <a:xfrm>
                <a:off x="436896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9"/>
              <p:cNvSpPr/>
              <p:nvPr/>
            </p:nvSpPr>
            <p:spPr>
              <a:xfrm>
                <a:off x="741060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0"/>
              <p:cNvSpPr/>
              <p:nvPr/>
            </p:nvSpPr>
            <p:spPr>
              <a:xfrm>
                <a:off x="4368960" y="5829480"/>
                <a:ext cx="14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21"/>
              <p:cNvGrpSpPr/>
              <p:nvPr/>
            </p:nvGrpSpPr>
            <p:grpSpPr>
              <a:xfrm>
                <a:off x="5788080" y="5626080"/>
                <a:ext cx="203040" cy="406440"/>
                <a:chOff x="5788080" y="5626080"/>
                <a:chExt cx="203040" cy="40644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5991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5856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592344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5"/>
                <p:cNvSpPr/>
                <p:nvPr/>
              </p:nvSpPr>
              <p:spPr>
                <a:xfrm>
                  <a:off x="578808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Line 26"/>
              <p:cNvSpPr/>
              <p:nvPr/>
            </p:nvSpPr>
            <p:spPr>
              <a:xfrm>
                <a:off x="5991120" y="5829480"/>
                <a:ext cx="14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>
                <a:off x="5584680" y="55594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5653080" y="5491080"/>
                <a:ext cx="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29"/>
              <p:cNvSpPr/>
              <p:nvPr/>
            </p:nvSpPr>
            <p:spPr>
              <a:xfrm>
                <a:off x="4267080" y="5097600"/>
                <a:ext cx="203400" cy="404640"/>
              </a:xfrm>
              <a:prstGeom prst="upArrow">
                <a:avLst>
                  <a:gd name="adj1" fmla="val 50000"/>
                  <a:gd name="adj2" fmla="val 4973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4368960" y="474804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P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P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31"/>
              <p:cNvGrpSpPr/>
              <p:nvPr/>
            </p:nvGrpSpPr>
            <p:grpSpPr>
              <a:xfrm>
                <a:off x="5383080" y="4341960"/>
                <a:ext cx="135000" cy="134640"/>
                <a:chOff x="5383080" y="4341960"/>
                <a:chExt cx="135000" cy="13464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5383080" y="4409280"/>
                  <a:ext cx="1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5450400" y="434196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34"/>
              <p:cNvSpPr/>
              <p:nvPr/>
            </p:nvSpPr>
            <p:spPr>
              <a:xfrm>
                <a:off x="6261120" y="4410000"/>
                <a:ext cx="13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558468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99076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856120" y="427500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8"/>
              <p:cNvSpPr/>
              <p:nvPr/>
            </p:nvSpPr>
            <p:spPr>
              <a:xfrm>
                <a:off x="5969160" y="428616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39"/>
              <p:cNvGrpSpPr/>
              <p:nvPr/>
            </p:nvGrpSpPr>
            <p:grpSpPr>
              <a:xfrm>
                <a:off x="5721480" y="4003560"/>
                <a:ext cx="550440" cy="244440"/>
                <a:chOff x="5721480" y="4003560"/>
                <a:chExt cx="550440" cy="2444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5721480" y="4003560"/>
                  <a:ext cx="404280" cy="244440"/>
                  <a:chOff x="5721480" y="4003560"/>
                  <a:chExt cx="404280" cy="244440"/>
                </a:xfrm>
              </p:grpSpPr>
              <p:sp>
                <p:nvSpPr>
                  <p:cNvPr id="193" name="Line 41"/>
                  <p:cNvSpPr/>
                  <p:nvPr/>
                </p:nvSpPr>
                <p:spPr>
                  <a:xfrm>
                    <a:off x="5721480" y="4125600"/>
                    <a:ext cx="404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42"/>
                  <p:cNvSpPr/>
                  <p:nvPr/>
                </p:nvSpPr>
                <p:spPr>
                  <a:xfrm>
                    <a:off x="580212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604476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44"/>
                  <p:cNvSpPr/>
                  <p:nvPr/>
                </p:nvSpPr>
                <p:spPr>
                  <a:xfrm flipV="1">
                    <a:off x="576180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45"/>
                  <p:cNvSpPr/>
                  <p:nvPr/>
                </p:nvSpPr>
                <p:spPr>
                  <a:xfrm flipV="1">
                    <a:off x="600444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Line 46"/>
                <p:cNvSpPr/>
                <p:nvPr/>
              </p:nvSpPr>
              <p:spPr>
                <a:xfrm>
                  <a:off x="6069960" y="4127760"/>
                  <a:ext cx="20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47"/>
              <p:cNvSpPr/>
              <p:nvPr/>
            </p:nvSpPr>
            <p:spPr>
              <a:xfrm>
                <a:off x="6260760" y="3733920"/>
                <a:ext cx="180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Depletion Reg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Original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533520" y="4800600"/>
            <a:ext cx="3264120" cy="977400"/>
            <a:chOff x="533520" y="4800600"/>
            <a:chExt cx="3264120" cy="977400"/>
          </a:xfrm>
        </p:grpSpPr>
        <p:grpSp>
          <p:nvGrpSpPr>
            <p:cNvPr id="201" name="Group 49"/>
            <p:cNvGrpSpPr/>
            <p:nvPr/>
          </p:nvGrpSpPr>
          <p:grpSpPr>
            <a:xfrm>
              <a:off x="533520" y="4800600"/>
              <a:ext cx="2832120" cy="939960"/>
              <a:chOff x="533520" y="4800600"/>
              <a:chExt cx="2832120" cy="93996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533520" y="4902480"/>
                <a:ext cx="2438640" cy="838080"/>
                <a:chOff x="533520" y="4902480"/>
                <a:chExt cx="2438640" cy="838080"/>
              </a:xfrm>
            </p:grpSpPr>
            <p:sp>
              <p:nvSpPr>
                <p:cNvPr id="203" name="Freeform 51"/>
                <p:cNvSpPr/>
                <p:nvPr/>
              </p:nvSpPr>
              <p:spPr>
                <a:xfrm>
                  <a:off x="533520" y="4902480"/>
                  <a:ext cx="2438640" cy="838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546480" y="5334120"/>
                  <a:ext cx="228600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927360" y="4800600"/>
                <a:ext cx="2438280" cy="914400"/>
                <a:chOff x="927360" y="4800600"/>
                <a:chExt cx="2438280" cy="914400"/>
              </a:xfrm>
            </p:grpSpPr>
            <p:sp>
              <p:nvSpPr>
                <p:cNvPr id="206" name="Line 54"/>
                <p:cNvSpPr/>
                <p:nvPr/>
              </p:nvSpPr>
              <p:spPr>
                <a:xfrm>
                  <a:off x="1536840" y="4800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927360" y="571500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 flipV="1">
                  <a:off x="2927520" y="491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57"/>
                <p:cNvSpPr/>
                <p:nvPr/>
              </p:nvSpPr>
              <p:spPr>
                <a:xfrm>
                  <a:off x="2932200" y="5486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58"/>
                <p:cNvSpPr/>
                <p:nvPr/>
              </p:nvSpPr>
              <p:spPr>
                <a:xfrm>
                  <a:off x="2775960" y="5158080"/>
                  <a:ext cx="3409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59"/>
                <p:cNvSpPr/>
                <p:nvPr/>
              </p:nvSpPr>
              <p:spPr>
                <a:xfrm>
                  <a:off x="3070440" y="5353200"/>
                  <a:ext cx="29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60"/>
                <p:cNvSpPr/>
                <p:nvPr/>
              </p:nvSpPr>
              <p:spPr>
                <a:xfrm flipV="1">
                  <a:off x="313236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3132360" y="5481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62"/>
            <p:cNvSpPr/>
            <p:nvPr/>
          </p:nvSpPr>
          <p:spPr>
            <a:xfrm>
              <a:off x="3193560" y="537228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5868360" y="5334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837720" y="57150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0000" y="914400"/>
            <a:ext cx="869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junction and the depletion region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carriers are unable to create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kag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stain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verse bias is sufficiently increased, a sudden increas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current is observed.  This is known as the Zener or Avalan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95320" y="4232160"/>
            <a:ext cx="3138840" cy="2462400"/>
            <a:chOff x="4495320" y="4232160"/>
            <a:chExt cx="3138840" cy="2462400"/>
          </a:xfrm>
        </p:grpSpPr>
        <p:grpSp>
          <p:nvGrpSpPr>
            <p:cNvPr id="221" name="Group 6"/>
            <p:cNvGrpSpPr/>
            <p:nvPr/>
          </p:nvGrpSpPr>
          <p:grpSpPr>
            <a:xfrm>
              <a:off x="5103720" y="4502160"/>
              <a:ext cx="1822320" cy="849240"/>
              <a:chOff x="5103720" y="4502160"/>
              <a:chExt cx="1822320" cy="84924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5192280" y="4502160"/>
                <a:ext cx="1644840" cy="84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392880" y="476784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5840" y="4767840"/>
                <a:ext cx="22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510372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"/>
              <p:cNvSpPr/>
              <p:nvPr/>
            </p:nvSpPr>
            <p:spPr>
              <a:xfrm>
                <a:off x="683748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6037200" y="450216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13"/>
            <p:cNvSpPr/>
            <p:nvPr/>
          </p:nvSpPr>
          <p:spPr>
            <a:xfrm flipH="1">
              <a:off x="4495320" y="49068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6926400" y="4906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449568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753264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49568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8"/>
            <p:cNvGrpSpPr/>
            <p:nvPr/>
          </p:nvGrpSpPr>
          <p:grpSpPr>
            <a:xfrm>
              <a:off x="5913360" y="5853240"/>
              <a:ext cx="201600" cy="404640"/>
              <a:chOff x="5913360" y="5853240"/>
              <a:chExt cx="201600" cy="40464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591336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604764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1"/>
              <p:cNvSpPr/>
              <p:nvPr/>
            </p:nvSpPr>
            <p:spPr>
              <a:xfrm>
                <a:off x="598068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2"/>
              <p:cNvSpPr/>
              <p:nvPr/>
            </p:nvSpPr>
            <p:spPr>
              <a:xfrm>
                <a:off x="611496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3"/>
            <p:cNvSpPr/>
            <p:nvPr/>
          </p:nvSpPr>
          <p:spPr>
            <a:xfrm>
              <a:off x="611496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6183360" y="585324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249960" y="57848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6"/>
            <p:cNvSpPr/>
            <p:nvPr/>
          </p:nvSpPr>
          <p:spPr>
            <a:xfrm>
              <a:off x="7431120" y="5324400"/>
              <a:ext cx="203040" cy="405000"/>
            </a:xfrm>
            <a:prstGeom prst="upArrow">
              <a:avLst>
                <a:gd name="adj1" fmla="val 50000"/>
                <a:gd name="adj2" fmla="val 498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304960" y="6326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Reverse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8"/>
            <p:cNvGrpSpPr/>
            <p:nvPr/>
          </p:nvGrpSpPr>
          <p:grpSpPr>
            <a:xfrm>
              <a:off x="5508720" y="4570560"/>
              <a:ext cx="135000" cy="134640"/>
              <a:chOff x="5508720" y="4570560"/>
              <a:chExt cx="135000" cy="134640"/>
            </a:xfrm>
          </p:grpSpPr>
          <p:sp>
            <p:nvSpPr>
              <p:cNvPr id="244" name="Line 29"/>
              <p:cNvSpPr/>
              <p:nvPr/>
            </p:nvSpPr>
            <p:spPr>
              <a:xfrm>
                <a:off x="5508720" y="4637880"/>
                <a:ext cx="13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5576040" y="4570560"/>
                <a:ext cx="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Line 31"/>
            <p:cNvSpPr/>
            <p:nvPr/>
          </p:nvSpPr>
          <p:spPr>
            <a:xfrm>
              <a:off x="6384960" y="46371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>
              <a:off x="6588000" y="4637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3"/>
            <p:cNvSpPr/>
            <p:nvPr/>
          </p:nvSpPr>
          <p:spPr>
            <a:xfrm flipH="1">
              <a:off x="5238720" y="46371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571032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631836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36"/>
            <p:cNvGrpSpPr/>
            <p:nvPr/>
          </p:nvGrpSpPr>
          <p:grpSpPr>
            <a:xfrm>
              <a:off x="5845320" y="4232160"/>
              <a:ext cx="608040" cy="243000"/>
              <a:chOff x="5845320" y="4232160"/>
              <a:chExt cx="608040" cy="243000"/>
            </a:xfrm>
          </p:grpSpPr>
          <p:grpSp>
            <p:nvGrpSpPr>
              <p:cNvPr id="252" name="Group 37"/>
              <p:cNvGrpSpPr/>
              <p:nvPr/>
            </p:nvGrpSpPr>
            <p:grpSpPr>
              <a:xfrm>
                <a:off x="5845320" y="4232160"/>
                <a:ext cx="405360" cy="243000"/>
                <a:chOff x="5845320" y="4232160"/>
                <a:chExt cx="405360" cy="243000"/>
              </a:xfrm>
            </p:grpSpPr>
            <p:sp>
              <p:nvSpPr>
                <p:cNvPr id="253" name="Line 38"/>
                <p:cNvSpPr/>
                <p:nvPr/>
              </p:nvSpPr>
              <p:spPr>
                <a:xfrm>
                  <a:off x="5845320" y="435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592632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616968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 flipV="1">
                  <a:off x="588564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 flipV="1">
                  <a:off x="612900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43"/>
              <p:cNvSpPr/>
              <p:nvPr/>
            </p:nvSpPr>
            <p:spPr>
              <a:xfrm>
                <a:off x="6250680" y="4355640"/>
                <a:ext cx="20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Rectangle 44"/>
          <p:cNvSpPr/>
          <p:nvPr/>
        </p:nvSpPr>
        <p:spPr>
          <a:xfrm>
            <a:off x="6453000" y="38862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Depletio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Origina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5715000" y="4508640"/>
            <a:ext cx="609480" cy="877680"/>
            <a:chOff x="5715000" y="4508640"/>
            <a:chExt cx="609480" cy="877680"/>
          </a:xfrm>
        </p:grpSpPr>
        <p:sp>
          <p:nvSpPr>
            <p:cNvPr id="261" name="Rectangle 46"/>
            <p:cNvSpPr/>
            <p:nvPr/>
          </p:nvSpPr>
          <p:spPr>
            <a:xfrm>
              <a:off x="5715000" y="4508640"/>
              <a:ext cx="60948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>
              <a:off x="6019560" y="4508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7238880" y="48769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P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9"/>
          <p:cNvGrpSpPr/>
          <p:nvPr/>
        </p:nvGrpSpPr>
        <p:grpSpPr>
          <a:xfrm>
            <a:off x="685800" y="4978440"/>
            <a:ext cx="2438280" cy="838080"/>
            <a:chOff x="685800" y="4978440"/>
            <a:chExt cx="2438280" cy="838080"/>
          </a:xfrm>
        </p:grpSpPr>
        <p:sp>
          <p:nvSpPr>
            <p:cNvPr id="265" name="Freeform 50"/>
            <p:cNvSpPr/>
            <p:nvPr/>
          </p:nvSpPr>
          <p:spPr>
            <a:xfrm>
              <a:off x="685800" y="4978440"/>
              <a:ext cx="2438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98400" y="5410080"/>
              <a:ext cx="22856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Line 52"/>
          <p:cNvSpPr/>
          <p:nvPr/>
        </p:nvSpPr>
        <p:spPr>
          <a:xfrm>
            <a:off x="1689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1079640" y="5791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975760" y="5486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3166920" y="50007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979720" y="54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2979720" y="55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58"/>
          <p:cNvGrpSpPr/>
          <p:nvPr/>
        </p:nvGrpSpPr>
        <p:grpSpPr>
          <a:xfrm>
            <a:off x="3053880" y="4995360"/>
            <a:ext cx="681840" cy="795600"/>
            <a:chOff x="3053880" y="4995360"/>
            <a:chExt cx="681840" cy="795600"/>
          </a:xfrm>
        </p:grpSpPr>
        <p:sp>
          <p:nvSpPr>
            <p:cNvPr id="274" name="Line 59"/>
            <p:cNvSpPr/>
            <p:nvPr/>
          </p:nvSpPr>
          <p:spPr>
            <a:xfrm flipV="1">
              <a:off x="3424320" y="499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0"/>
            <p:cNvSpPr/>
            <p:nvPr/>
          </p:nvSpPr>
          <p:spPr>
            <a:xfrm>
              <a:off x="3429360" y="556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3053880" y="5181480"/>
              <a:ext cx="68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62"/>
          <p:cNvSpPr/>
          <p:nvPr/>
        </p:nvSpPr>
        <p:spPr>
          <a:xfrm>
            <a:off x="5716080" y="55627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3"/>
          <p:cNvSpPr/>
          <p:nvPr/>
        </p:nvSpPr>
        <p:spPr>
          <a:xfrm>
            <a:off x="1066320" y="5791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iode Curve"/>
          <p:cNvPicPr/>
          <p:nvPr/>
        </p:nvPicPr>
        <p:blipFill>
          <a:blip r:embed="rId1"/>
          <a:stretch/>
        </p:blipFill>
        <p:spPr>
          <a:xfrm>
            <a:off x="685800" y="1143000"/>
            <a:ext cx="4194000" cy="42116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258520" y="1676520"/>
            <a:ext cx="3103560" cy="3065760"/>
            <a:chOff x="5258520" y="1676520"/>
            <a:chExt cx="3103560" cy="3065760"/>
          </a:xfrm>
        </p:grpSpPr>
        <p:sp>
          <p:nvSpPr>
            <p:cNvPr id="281" name="Line 4"/>
            <p:cNvSpPr/>
            <p:nvPr/>
          </p:nvSpPr>
          <p:spPr>
            <a:xfrm>
              <a:off x="7010280" y="1981080"/>
              <a:ext cx="0" cy="22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562360" y="33526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7773840" y="3276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6935760" y="1676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7010280" y="2133360"/>
              <a:ext cx="0" cy="12189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6019560" y="3352680"/>
              <a:ext cx="99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163280" y="25146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5258520" y="350496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n-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323400" y="4343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682920" y="3049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characterist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571640" y="4800600"/>
            <a:ext cx="4423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Diode – no resistance to current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orward direction and infinite resist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reverse direction. (Equivalent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Diode Curve"/>
          <p:cNvPicPr/>
          <p:nvPr/>
        </p:nvPicPr>
        <p:blipFill>
          <a:blip r:embed="rId1"/>
          <a:stretch/>
        </p:blipFill>
        <p:spPr>
          <a:xfrm>
            <a:off x="6564240" y="0"/>
            <a:ext cx="2579760" cy="2590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447840" y="1295280"/>
            <a:ext cx="8391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Voltage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specifi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curr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ypically 0.3 V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ium and 0.7 V for Silic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– specified at a voltage less than the breakd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.  Leakage current is undesirable and will be present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eakdown voltage is reached.  Junction diodes are inte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 below their breakdown volt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ating – determined primarily by the size of the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, material used, and configuration of the package.  Ave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used (not RMS cur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7200" y="762120"/>
            <a:ext cx="86868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reverse vol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 Max. reverse voltage that will not cause 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ted forward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amount of average current permitted to flow in forwar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forward voltage dr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forward voltage drop across diode @ ind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leakage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reverse reco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witching speed of a diode depends upon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and fabr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ly, the smaller the chip the faster it switches (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being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reverse recovery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s usually the limi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ime it takes a diode to switch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OFF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642280" y="54864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84360" y="304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75480" y="838080"/>
            <a:ext cx="363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rectifier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wave rectif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838080" y="1523880"/>
            <a:ext cx="1952280" cy="1371600"/>
            <a:chOff x="838080" y="1523880"/>
            <a:chExt cx="1952280" cy="1371600"/>
          </a:xfrm>
        </p:grpSpPr>
        <p:sp>
          <p:nvSpPr>
            <p:cNvPr id="305" name="Oval 6"/>
            <p:cNvSpPr/>
            <p:nvPr/>
          </p:nvSpPr>
          <p:spPr>
            <a:xfrm>
              <a:off x="838080" y="209520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90720" y="163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990720" y="240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990720" y="1638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990720" y="28573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2438280" y="163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2361960" y="2019240"/>
              <a:ext cx="167040" cy="424800"/>
              <a:chOff x="2361960" y="2019240"/>
              <a:chExt cx="167040" cy="42480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2362320" y="210456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367000" y="220932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371680" y="23140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"/>
              <p:cNvSpPr/>
              <p:nvPr/>
            </p:nvSpPr>
            <p:spPr>
              <a:xfrm flipH="1">
                <a:off x="2361960" y="205704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"/>
              <p:cNvSpPr/>
              <p:nvPr/>
            </p:nvSpPr>
            <p:spPr>
              <a:xfrm flipH="1">
                <a:off x="2361960" y="2157120"/>
                <a:ext cx="152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8"/>
              <p:cNvSpPr/>
              <p:nvPr/>
            </p:nvSpPr>
            <p:spPr>
              <a:xfrm flipH="1">
                <a:off x="2361960" y="22618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 flipH="1">
                <a:off x="2376360" y="2361960"/>
                <a:ext cx="1526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438280" y="2019240"/>
                <a:ext cx="8100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1"/>
              <p:cNvSpPr/>
              <p:nvPr/>
            </p:nvSpPr>
            <p:spPr>
              <a:xfrm>
                <a:off x="2381400" y="2414160"/>
                <a:ext cx="85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22"/>
            <p:cNvSpPr/>
            <p:nvPr/>
          </p:nvSpPr>
          <p:spPr>
            <a:xfrm>
              <a:off x="2438280" y="243324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2666880" y="28191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2654280" y="1599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25"/>
            <p:cNvSpPr/>
            <p:nvPr/>
          </p:nvSpPr>
          <p:spPr>
            <a:xfrm rot="5400000">
              <a:off x="1676160" y="1562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1828800" y="152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2516760" y="2171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876240" y="220968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14400" y="4114800"/>
            <a:ext cx="2629080" cy="1676520"/>
            <a:chOff x="914400" y="4114800"/>
            <a:chExt cx="2629080" cy="1676520"/>
          </a:xfrm>
        </p:grpSpPr>
        <p:sp>
          <p:nvSpPr>
            <p:cNvPr id="329" name="Oval 30"/>
            <p:cNvSpPr/>
            <p:nvPr/>
          </p:nvSpPr>
          <p:spPr>
            <a:xfrm>
              <a:off x="914400" y="464832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106704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1067040" y="495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952560" y="476280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"/>
            <p:cNvSpPr/>
            <p:nvPr/>
          </p:nvSpPr>
          <p:spPr>
            <a:xfrm>
              <a:off x="1067040" y="4191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5"/>
            <p:cNvSpPr/>
            <p:nvPr/>
          </p:nvSpPr>
          <p:spPr>
            <a:xfrm>
              <a:off x="1067040" y="541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6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167652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281952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182880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0"/>
            <p:cNvGrpSpPr/>
            <p:nvPr/>
          </p:nvGrpSpPr>
          <p:grpSpPr>
            <a:xfrm>
              <a:off x="2057400" y="4622760"/>
              <a:ext cx="220320" cy="85680"/>
              <a:chOff x="2057400" y="4622760"/>
              <a:chExt cx="220320" cy="85680"/>
            </a:xfrm>
          </p:grpSpPr>
          <p:sp>
            <p:nvSpPr>
              <p:cNvPr id="340" name="Line 41"/>
              <p:cNvSpPr/>
              <p:nvPr/>
            </p:nvSpPr>
            <p:spPr>
              <a:xfrm flipV="1">
                <a:off x="210168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156040" y="462780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3"/>
              <p:cNvSpPr/>
              <p:nvPr/>
            </p:nvSpPr>
            <p:spPr>
              <a:xfrm flipV="1">
                <a:off x="2210400" y="462528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20772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45"/>
              <p:cNvSpPr/>
              <p:nvPr/>
            </p:nvSpPr>
            <p:spPr>
              <a:xfrm>
                <a:off x="212904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46"/>
              <p:cNvSpPr/>
              <p:nvPr/>
            </p:nvSpPr>
            <p:spPr>
              <a:xfrm>
                <a:off x="21834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47"/>
              <p:cNvSpPr/>
              <p:nvPr/>
            </p:nvSpPr>
            <p:spPr>
              <a:xfrm>
                <a:off x="2235240" y="4622760"/>
                <a:ext cx="212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48"/>
              <p:cNvSpPr/>
              <p:nvPr/>
            </p:nvSpPr>
            <p:spPr>
              <a:xfrm flipV="1">
                <a:off x="2057400" y="4627440"/>
                <a:ext cx="136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49"/>
              <p:cNvSpPr/>
              <p:nvPr/>
            </p:nvSpPr>
            <p:spPr>
              <a:xfrm flipV="1">
                <a:off x="2262240" y="4654440"/>
                <a:ext cx="1548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50"/>
            <p:cNvSpPr/>
            <p:nvPr/>
          </p:nvSpPr>
          <p:spPr>
            <a:xfrm>
              <a:off x="18288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22860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2514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53"/>
            <p:cNvSpPr/>
            <p:nvPr/>
          </p:nvSpPr>
          <p:spPr>
            <a:xfrm>
              <a:off x="1600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4"/>
            <p:cNvSpPr/>
            <p:nvPr/>
          </p:nvSpPr>
          <p:spPr>
            <a:xfrm rot="5400000">
              <a:off x="2123280" y="41252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55"/>
            <p:cNvSpPr/>
            <p:nvPr/>
          </p:nvSpPr>
          <p:spPr>
            <a:xfrm>
              <a:off x="1600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2273400" y="4124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57"/>
            <p:cNvSpPr/>
            <p:nvPr/>
          </p:nvSpPr>
          <p:spPr>
            <a:xfrm>
              <a:off x="2743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58"/>
            <p:cNvSpPr/>
            <p:nvPr/>
          </p:nvSpPr>
          <p:spPr>
            <a:xfrm rot="5400000">
              <a:off x="2123280" y="50396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2743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0"/>
            <p:cNvSpPr/>
            <p:nvPr/>
          </p:nvSpPr>
          <p:spPr>
            <a:xfrm>
              <a:off x="2273400" y="503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167652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1676520" y="5791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3505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50532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5"/>
            <p:cNvSpPr/>
            <p:nvPr/>
          </p:nvSpPr>
          <p:spPr>
            <a:xfrm>
              <a:off x="3463920" y="46450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6"/>
            <p:cNvSpPr/>
            <p:nvPr/>
          </p:nvSpPr>
          <p:spPr>
            <a:xfrm>
              <a:off x="3467160" y="52484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7"/>
            <p:cNvSpPr/>
            <p:nvPr/>
          </p:nvSpPr>
          <p:spPr>
            <a:xfrm>
              <a:off x="2059560" y="4648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68" descr="Full-Wave rectifier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3886200" y="396252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DC Pulse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3809880" y="1371600"/>
            <a:ext cx="189720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0"/>
          <p:cNvSpPr/>
          <p:nvPr/>
        </p:nvSpPr>
        <p:spPr>
          <a:xfrm>
            <a:off x="6008040" y="1052640"/>
            <a:ext cx="304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Rectified signal is a combination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of an AC signal and a DC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omponent ( known as a DC pu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6096240" y="358128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The diodes act to route the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urrent From both halves of the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AC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ri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f semiconduct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devices, SCR (silicon controlled rectifier), SCS (silicon controlled switch), Diacs, Triacs, and Shockley 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high power switch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hundreds of amps / thousands of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operate in the breakdow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have a specified voltage drop when they are used in reverse 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n junction (i.e. diode) will break down in reverse bias if enough voltage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are operated in reverse bias for normal voltage reg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maintain a nearly constant voltage under conditions of widely vary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I-V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3" descr="zener curve"/>
          <p:cNvPicPr/>
          <p:nvPr/>
        </p:nvPicPr>
        <p:blipFill>
          <a:blip r:embed="rId1"/>
          <a:stretch/>
        </p:blipFill>
        <p:spPr>
          <a:xfrm>
            <a:off x="762120" y="1176480"/>
            <a:ext cx="7315200" cy="4157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914400" y="524844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er characteristic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as the revers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ased, the leakage current remains essentially constant until the breakdown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ner volta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reakdow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ner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electric field near the junction becomes large enough to excite valence electrons directly into the conduction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lanche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inority carriers are accelerated in the electric field near the junction to sufficient energies that they can excite valence electrons through coll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predominance of one breakdown o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pends on the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rve as a “Voltage Regulator” when placed in parallel across a load to be reg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voltreg"/>
          <p:cNvPicPr/>
          <p:nvPr/>
        </p:nvPicPr>
        <p:blipFill>
          <a:blip r:embed="rId1"/>
          <a:stretch/>
        </p:blipFill>
        <p:spPr>
          <a:xfrm>
            <a:off x="1523880" y="2914560"/>
            <a:ext cx="632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Voltag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mmon range, 3.3 V to 7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of Zener Voltage – commonly 5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urrent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rrespondent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handling capability – ¼, ½, 1, 5, 10, 50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 - Temperature sensitive re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change in electrical resistance is very large and precise when subjected to a change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s exhibit larger parameter change with temperature than thermocouples and RT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istor -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couple -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D –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mposed of semiconducto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ragile and are susceptible to permanent decali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676520" y="2514600"/>
            <a:ext cx="5333400" cy="3461400"/>
            <a:chOff x="1676520" y="2514600"/>
            <a:chExt cx="5333400" cy="3461400"/>
          </a:xfrm>
        </p:grpSpPr>
        <p:pic>
          <p:nvPicPr>
            <p:cNvPr id="387" name="Picture 4" descr="ther1"/>
            <p:cNvPicPr/>
            <p:nvPr/>
          </p:nvPicPr>
          <p:blipFill>
            <a:blip r:embed="rId1"/>
            <a:stretch/>
          </p:blipFill>
          <p:spPr>
            <a:xfrm>
              <a:off x="2895480" y="2514600"/>
              <a:ext cx="36144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ther2"/>
            <p:cNvPicPr/>
            <p:nvPr/>
          </p:nvPicPr>
          <p:blipFill>
            <a:blip r:embed="rId2"/>
            <a:stretch/>
          </p:blipFill>
          <p:spPr>
            <a:xfrm>
              <a:off x="2971800" y="4952880"/>
              <a:ext cx="364428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2974680" y="373356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INS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3202200" y="441936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3889080" y="56386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”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1676520" y="2514600"/>
              <a:ext cx="114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095”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1752480" y="49528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1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486400" y="3657240"/>
              <a:ext cx="152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32 TINNED COPPER WIRE 3”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V="1">
              <a:off x="594360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6019560" y="449568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4952880" y="4038480"/>
              <a:ext cx="685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581280" y="480024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4800600" y="5790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3047760" y="5790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2514600" y="533340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V="1">
              <a:off x="2438280" y="2819160"/>
              <a:ext cx="456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20"/>
          <p:cNvSpPr/>
          <p:nvPr/>
        </p:nvSpPr>
        <p:spPr>
          <a:xfrm>
            <a:off x="10666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many available probe assemb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hermistors have a negative temperature coefficient (NTC); that is, their resistance decreases with increasing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temperature coefficient (PTC) thermistors also exist with directly proportional R vs.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non-linear devices (high sensi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mperature ranges are –1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-7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o +3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1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n reach up to 6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R-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vidual thermistor curve can be very closely approximated by using the Steinhart-Har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1523880" y="2590920"/>
            <a:ext cx="3962520" cy="838080"/>
            <a:chOff x="1523880" y="2590920"/>
            <a:chExt cx="3962520" cy="838080"/>
          </a:xfrm>
        </p:grpSpPr>
        <p:graphicFrame>
          <p:nvGraphicFramePr>
            <p:cNvPr id="409" name="Object 5"/>
            <p:cNvGraphicFramePr/>
            <p:nvPr/>
          </p:nvGraphicFramePr>
          <p:xfrm>
            <a:off x="2209680" y="2667240"/>
            <a:ext cx="327672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667240"/>
                      <a:ext cx="32767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523880" y="2590920"/>
            <a:ext cx="235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590920"/>
                      <a:ext cx="235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Text Box 7"/>
            <p:cNvSpPr/>
            <p:nvPr/>
          </p:nvSpPr>
          <p:spPr>
            <a:xfrm>
              <a:off x="182988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5943600" y="22096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Degrees Ke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esistance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erm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,C = Curve-fi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62120" y="3505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4120" y="4495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334120" y="5105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5638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2057400" y="4114440"/>
            <a:ext cx="2743200" cy="1829160"/>
            <a:chOff x="2057400" y="4114440"/>
            <a:chExt cx="2743200" cy="1829160"/>
          </a:xfrm>
        </p:grpSpPr>
        <p:grpSp>
          <p:nvGrpSpPr>
            <p:cNvPr id="420" name="Group 14"/>
            <p:cNvGrpSpPr/>
            <p:nvPr/>
          </p:nvGrpSpPr>
          <p:grpSpPr>
            <a:xfrm>
              <a:off x="2057400" y="4114800"/>
              <a:ext cx="2743200" cy="1828800"/>
              <a:chOff x="2057400" y="4114800"/>
              <a:chExt cx="2743200" cy="1828800"/>
            </a:xfrm>
          </p:grpSpPr>
          <p:sp>
            <p:nvSpPr>
              <p:cNvPr id="421" name="Line 15"/>
              <p:cNvSpPr/>
              <p:nvPr/>
            </p:nvSpPr>
            <p:spPr>
              <a:xfrm>
                <a:off x="2057400" y="411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6"/>
              <p:cNvSpPr/>
              <p:nvPr/>
            </p:nvSpPr>
            <p:spPr>
              <a:xfrm>
                <a:off x="2057400" y="5943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209680" y="4114440"/>
              <a:ext cx="609840" cy="1752840"/>
              <a:chOff x="2209680" y="4114440"/>
              <a:chExt cx="609840" cy="1752840"/>
            </a:xfrm>
          </p:grpSpPr>
          <p:sp>
            <p:nvSpPr>
              <p:cNvPr id="424" name="Freeform 18"/>
              <p:cNvSpPr/>
              <p:nvPr/>
            </p:nvSpPr>
            <p:spPr>
              <a:xfrm>
                <a:off x="2209680" y="4343400"/>
                <a:ext cx="609840" cy="1523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9"/>
              <p:cNvSpPr/>
              <p:nvPr/>
            </p:nvSpPr>
            <p:spPr>
              <a:xfrm flipV="1">
                <a:off x="2209680" y="41144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Freeform 20"/>
            <p:cNvSpPr/>
            <p:nvPr/>
          </p:nvSpPr>
          <p:spPr>
            <a:xfrm>
              <a:off x="2057400" y="4572000"/>
              <a:ext cx="160020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057400" y="5257800"/>
              <a:ext cx="2666880" cy="68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2"/>
          <p:cNvSpPr/>
          <p:nvPr/>
        </p:nvSpPr>
        <p:spPr>
          <a:xfrm>
            <a:off x="6019920" y="4267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istor (sen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19920" y="4861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D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6019920" y="547056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ocouple (versat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44197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 rot="16200000">
            <a:off x="1361880" y="4353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3" descr="fig2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676520" y="2514600"/>
            <a:ext cx="5867280" cy="43178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762120" y="12193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atstone bridge” with selector switch to measure temperature at sever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c is a three terminal AC semiconduc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on with a low energy signal to the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1 and MT2 are the current carrying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is the gate terminal, used for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triac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705720" y="2438280"/>
            <a:ext cx="199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7800" y="1447920"/>
            <a:ext cx="35812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is set to a desired temperature (bridge unbalance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alance is fed into an amplifier, which actuates a relay to provide a source of heat or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hermistor senses the desired temperature, the bridge is balanced, opening the relay and turning off the heat or co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1447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304920" y="2057400"/>
            <a:ext cx="4952880" cy="3751920"/>
            <a:chOff x="304920" y="2057400"/>
            <a:chExt cx="4952880" cy="3751920"/>
          </a:xfrm>
        </p:grpSpPr>
        <p:grpSp>
          <p:nvGrpSpPr>
            <p:cNvPr id="440" name="Group 6"/>
            <p:cNvGrpSpPr/>
            <p:nvPr/>
          </p:nvGrpSpPr>
          <p:grpSpPr>
            <a:xfrm>
              <a:off x="304920" y="2712960"/>
              <a:ext cx="4952880" cy="3096360"/>
              <a:chOff x="304920" y="2712960"/>
              <a:chExt cx="4952880" cy="3096360"/>
            </a:xfrm>
          </p:grpSpPr>
          <p:pic>
            <p:nvPicPr>
              <p:cNvPr id="441" name="Picture 7" descr="fig62"/>
              <p:cNvPicPr/>
              <p:nvPr/>
            </p:nvPicPr>
            <p:blipFill>
              <a:blip r:embed="rId1"/>
              <a:stretch/>
            </p:blipFill>
            <p:spPr>
              <a:xfrm>
                <a:off x="304920" y="2712960"/>
                <a:ext cx="4952880" cy="295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8"/>
              <p:cNvGrpSpPr/>
              <p:nvPr/>
            </p:nvGrpSpPr>
            <p:grpSpPr>
              <a:xfrm>
                <a:off x="685800" y="4267080"/>
                <a:ext cx="4343400" cy="1542240"/>
                <a:chOff x="685800" y="4267080"/>
                <a:chExt cx="4343400" cy="1542240"/>
              </a:xfrm>
            </p:grpSpPr>
            <p:sp>
              <p:nvSpPr>
                <p:cNvPr id="443" name="Text Box 9"/>
                <p:cNvSpPr/>
                <p:nvPr/>
              </p:nvSpPr>
              <p:spPr>
                <a:xfrm>
                  <a:off x="3352680" y="510552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 gain ampl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4267080" y="426708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11"/>
                <p:cNvSpPr/>
                <p:nvPr/>
              </p:nvSpPr>
              <p:spPr>
                <a:xfrm flipH="1" flipV="1">
                  <a:off x="3733560" y="4419360"/>
                  <a:ext cx="2286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85800" y="5089680"/>
                  <a:ext cx="2209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hermis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Text Box 13"/>
            <p:cNvSpPr/>
            <p:nvPr/>
          </p:nvSpPr>
          <p:spPr>
            <a:xfrm>
              <a:off x="2895480" y="20574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resistor for setting desired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 flipH="1">
              <a:off x="3276360" y="33526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traditional transi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ollector, emitter, and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transistor base is a light-sensitive collector-base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or to emitter leakage current when transistor is switched off, called collector dark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Pack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phototransistor types"/>
          <p:cNvPicPr/>
          <p:nvPr/>
        </p:nvPicPr>
        <p:blipFill>
          <a:blip r:embed="rId1"/>
          <a:stretch/>
        </p:blipFill>
        <p:spPr>
          <a:xfrm>
            <a:off x="762120" y="16002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phototransistor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ght sensitive collector base p-n junction controls current flow between the emitter and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ght intensity increases, resistance decreases, creating more emitter-bas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 base current controls the larger emitter-collector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or current depends on the light intensity and the DC current gain of the phototransis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hototransistor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5409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ototransistor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4" descr="phototransistor schematic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wall"/>
          <p:cNvPicPr/>
          <p:nvPr/>
        </p:nvPicPr>
        <p:blipFill>
          <a:blip r:embed="rId1"/>
          <a:stretch/>
        </p:blipFill>
        <p:spPr>
          <a:xfrm>
            <a:off x="838080" y="2514600"/>
            <a:ext cx="4114800" cy="3114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schem1"/>
          <p:cNvPicPr/>
          <p:nvPr/>
        </p:nvPicPr>
        <p:blipFill>
          <a:blip r:embed="rId2"/>
          <a:stretch/>
        </p:blipFill>
        <p:spPr>
          <a:xfrm>
            <a:off x="4800600" y="2438280"/>
            <a:ext cx="3733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baffle length to obtain a specific detectio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frared components that won’t be affected by visibl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~ 220 ohm resistors for LE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sensors in a row to detect narrow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ensitive to temperatur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tected against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etic packages are more tolerant of severe environments than plastic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 packages are less expensive than hermetic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r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high volt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noise isolation because switching circuits are electrically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two systems with transmission of photons eliminates the need for a common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triac pnpn"/>
          <p:cNvPicPr/>
          <p:nvPr/>
        </p:nvPicPr>
        <p:blipFill>
          <a:blip r:embed="rId1"/>
          <a:srcRect l="18753" t="12500" r="35001" b="34997"/>
          <a:stretch/>
        </p:blipFill>
        <p:spPr>
          <a:xfrm>
            <a:off x="4876920" y="2057400"/>
            <a:ext cx="3733560" cy="339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25146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aye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between MT1 and MT2 are parallel switches (PNPN and N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positive or negative gate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dielectric sandwich separates input from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optoisolator construction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age = infrared emitting diode (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age = silicon NPN photo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optoisolator schematic"/>
          <p:cNvPicPr/>
          <p:nvPr/>
        </p:nvPicPr>
        <p:blipFill>
          <a:blip r:embed="rId1"/>
          <a:stretch/>
        </p:blipFill>
        <p:spPr>
          <a:xfrm>
            <a:off x="4038480" y="1600200"/>
            <a:ext cx="4496040" cy="2819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optoisolator chip"/>
          <p:cNvPicPr/>
          <p:nvPr/>
        </p:nvPicPr>
        <p:blipFill>
          <a:blip r:embed="rId2"/>
          <a:stretch/>
        </p:blipFill>
        <p:spPr>
          <a:xfrm>
            <a:off x="914400" y="1905120"/>
            <a:ext cx="29829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b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alculate speed or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emitter and detector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4" descr="opto interupter figure2"/>
          <p:cNvPicPr/>
          <p:nvPr/>
        </p:nvPicPr>
        <p:blipFill>
          <a:blip r:embed="rId1"/>
          <a:stretch/>
        </p:blipFill>
        <p:spPr>
          <a:xfrm>
            <a:off x="4876920" y="2438280"/>
            <a:ext cx="3251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mechanical positioning problems encountered in adjusting the emitter and detector for proper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opto interupter figure1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711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opto interupter schematic"/>
          <p:cNvPicPr/>
          <p:nvPr/>
        </p:nvPicPr>
        <p:blipFill>
          <a:blip r:embed="rId2"/>
          <a:stretch/>
        </p:blipFill>
        <p:spPr>
          <a:xfrm>
            <a:off x="4114800" y="2133720"/>
            <a:ext cx="411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 for applications requ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solation surge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not travel in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motors, solenoid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riac operating curve"/>
          <p:cNvPicPr/>
          <p:nvPr/>
        </p:nvPicPr>
        <p:blipFill>
          <a:blip r:embed="rId1">
            <a:lum contrast="30000"/>
          </a:blip>
          <a:srcRect l="0" t="0" r="0" b="10130"/>
          <a:stretch/>
        </p:blipFill>
        <p:spPr>
          <a:xfrm>
            <a:off x="1981080" y="1600200"/>
            <a:ext cx="525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drant - MT2 is (+) with respect to 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reak-over voltage of the Tr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ighest voltage that can be bl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akage current of the Triac when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MT1 and 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veral orders of magnitude smaller than the “on” 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World 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in various shape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all the same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unt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riacs"/>
          <p:cNvPicPr/>
          <p:nvPr/>
        </p:nvPicPr>
        <p:blipFill>
          <a:blip r:embed="rId1"/>
          <a:stretch/>
        </p:blipFill>
        <p:spPr>
          <a:xfrm>
            <a:off x="4724280" y="22096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triac switch"/>
          <p:cNvPicPr/>
          <p:nvPr/>
        </p:nvPicPr>
        <p:blipFill>
          <a:blip r:embed="rId1"/>
          <a:stretch/>
        </p:blipFill>
        <p:spPr>
          <a:xfrm>
            <a:off x="3581280" y="1752480"/>
            <a:ext cx="5410440" cy="487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9480" y="2057400"/>
            <a:ext cx="32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Triac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ontrol current/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Mechanical wear in 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652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7440" y="1641600"/>
            <a:ext cx="43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review of semicondu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f 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ner Diod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7086600" y="761760"/>
            <a:ext cx="1345680" cy="609840"/>
            <a:chOff x="7086600" y="761760"/>
            <a:chExt cx="1345680" cy="609840"/>
          </a:xfrm>
        </p:grpSpPr>
        <p:sp>
          <p:nvSpPr>
            <p:cNvPr id="72" name="AutoShape 7"/>
            <p:cNvSpPr/>
            <p:nvPr/>
          </p:nvSpPr>
          <p:spPr>
            <a:xfrm rot="16200000">
              <a:off x="7467120" y="761760"/>
              <a:ext cx="609480" cy="609120"/>
            </a:xfrm>
            <a:prstGeom prst="flowChartMerg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8076960" y="762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80514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70866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0:20:07Z</dcterms:created>
  <dc:creator>Mechanical Engineering Project</dc:creator>
  <dc:description/>
  <dc:language>en-US</dc:language>
  <cp:lastModifiedBy>Brigade</cp:lastModifiedBy>
  <dcterms:modified xsi:type="dcterms:W3CDTF">2011-08-09T04:51:37Z</dcterms:modified>
  <cp:revision>0</cp:revision>
  <dc:subject/>
  <dc:title>Mechanical Engineering Project</dc:title>
</cp:coreProperties>
</file>